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84BA-AD10-4135-B02B-751ECBF22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E711-1E03-4FAE-8432-A39B48919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B377-3034-4113-98FE-866961712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9B98-7CF6-4E38-922D-2672A31A7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66AB-1600-4EBF-994E-D468F1764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7EAD-1602-4550-9B62-CC29B81D9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288E-7957-4315-AC9F-CF766EC6E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AE06-190A-47BD-BA72-05325E0D8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FA26-824D-4852-8ADB-8CBEC9C01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93BC-7968-48E7-A776-15ECC1F7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D1FC-8B8E-461A-A072-C72CDA15E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7A74-BADD-446C-9114-5705DAC0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15180-C2DA-41AD-90F1-760F907DC45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Bacteriology/Virolog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008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Bartonell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alibri"/>
              </a:rPr>
              <a:t>B. henselae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ffffff"/>
                </a:solidFill>
                <a:latin typeface="Calibri"/>
              </a:rPr>
              <a:t>Cat Scratch Disease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ustule at scratch, large, painful lymph nod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arinaud’s Oculoglandular Syndrome (2-17%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njunctivitis, b.v. proliferation, resolv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ncelphalitis/Meningitis/Myelitis (1-7%) cranial/ peripheral nerves, convulsion, resolv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x: Doxycyclin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alibri"/>
              </a:rPr>
              <a:t>B. henselae and B. quintana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ffffff"/>
                </a:solidFill>
                <a:latin typeface="Calibri"/>
              </a:rPr>
              <a:t>Bacillary Angiomatosis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mmunocompromised patients (AIDS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inly skin (also bone, GI, reproductive, LN, CNS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ddish vascular nodules, lesions similar to Kaposi’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oliferation of vascular endothelial cells (HIF-1, VEGF from macrophages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x: Erythromyi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Bartonell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alibri"/>
              </a:rPr>
              <a:t>B. quintana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ffffff"/>
                </a:solidFill>
                <a:latin typeface="Calibri"/>
              </a:rPr>
              <a:t>Trench Fever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pread by human louses, scratching ski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oor hygiene: homeless, alcoholic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ain in shin bones, 5 day fever cycle, non-fata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x: Erythomycin, Doxy-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lver Stain, ELISA, 16S rRN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5000"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alibri"/>
              </a:rPr>
              <a:t>B. bacilliformis</a:t>
            </a:r>
            <a:br>
              <a:rPr sz="1900"/>
            </a:br>
            <a:r>
              <a:rPr b="1" i="1" lang="en-US" sz="1900" spc="-1" strike="noStrike">
                <a:solidFill>
                  <a:srgbClr val="ffffff"/>
                </a:solidFill>
                <a:latin typeface="Calibri"/>
              </a:rPr>
              <a:t>Carrion’s Disease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artonellosi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roya fever (40% fatal febrile anemia) with hemolysin, pain in shins, erythrocyte lysi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Verruga peruana (skin angiomatosis) chronic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x: Chloramphenico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aplasmatacea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alibri"/>
              </a:rPr>
              <a:t>Ehrlichia chaffeensis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ffffff"/>
                </a:solidFill>
                <a:latin typeface="Calibri"/>
              </a:rPr>
              <a:t>Human Monocytic Ehrlichosis (HME)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onocytic intracytoplasmic inclusi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ransmitted by lone star tick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gnificant left-shif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outheastern U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ilitary dogs from VN wa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ymptoms similar to RMSF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x: Doxycyclin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alibri"/>
              </a:rPr>
              <a:t>Anaplasma phagocytophilum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Calibri"/>
              </a:rPr>
              <a:t>Human Granulocytic Anaplasmosis (HGA)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Neutrophilic intra-cytoplasmic inclusi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ransmitted by deer tick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re febrile illnes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milar distribution to Lym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creased incidence w/ ag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HTLV</a:t>
            </a:r>
            <a:br>
              <a:rPr sz="3600"/>
            </a:br>
            <a:r>
              <a:rPr b="0" i="1" lang="en-US" sz="3600" spc="-1" strike="noStrike">
                <a:solidFill>
                  <a:srgbClr val="ffffff"/>
                </a:solidFill>
                <a:latin typeface="Calibri"/>
              </a:rPr>
              <a:t>Adult T-cell Leukemia/Lymphoma (ATLL)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ncovirus, icosahedral capsid, dsRNA+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ecades long latency perio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TLL develops in 3-5%, fatal in one year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ncogene activation in CD4+ helper cell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mmune mediated neurological symptom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ame treatment as HIV (HAART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IV-1, HIV-2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Acquired Immunodeficiency Syndrome (AIDS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Lentivirus, truncated cone capsid, dsRNA+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Gene groups: gag (structural proteins), pol (enzymes), env (envelope glycoproteins)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gp120, gp41 bind to CD4 and coreceptors CCR5 (macrophages), CXCR4 (T-cells)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tax (trans-activator factor), rex (regulates mRNA)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High mutation rates yields drug resistance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ELISA, Western blot to confirm, CD4 count for severity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Drug target gp41 fusion, reverse transcription, polyprotein proteolysis; (non)-nucleoside analogs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IV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ucleotide RT Inhibitors (NRTIs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Zidovudine (AZ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) and Lamivudine (3T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Used for HIV, 3TC also for chronic Hep B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danosine (ddiA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ZT resistant HIV, causes pancreatitis (5%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tavudine (d4T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ucleo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de RT Inhibito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enofovi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rgets viral RT, can replace NRTI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IV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n-Nucleoside RT Inhibitors (NNRTI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evirapin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inds to RT, steric hindrance to Tri-P, hepatotoxicit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IV Fusion Inhibito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nfuvirtide (Fuzeon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inds to HIV-1 gp41 and prevents fus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IV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Protease Inhibitor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hibit viral “maturation” by blocking cleavage of gag viral polyproteins by protease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Lipodystrophy, induce/worsen diabete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idney stones, diarrhea, increased serum TG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dinavir, Saquinavir, Ritonavir, Lopinavir, Nefinavir, Amprenavir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HAAR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ZT, 3TC, NNRTI, Protease Inhibitor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erpesvirus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Kinase puts first sugar on bases (AMP, GMP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cyclovi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Valacyclovi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Ganciclovi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enciclovi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amciclovi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scarne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Vidarabin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erpesvirus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cyclovi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Open ring, chain terminato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SV &gt; VZV &gt;&gt; CMV (non-theraputic?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duces mortality 50% in herpes encephaliti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nal, CNS toxicit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oor GI absorption (20%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Valacyclovi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odrug for Acyclovi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creased GI absorption (60%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hlamydia trachomatis</a:t>
            </a:r>
            <a:br>
              <a:rPr sz="4000"/>
            </a:br>
            <a:r>
              <a:rPr b="0" i="1" lang="en-US" sz="4000" spc="-1" strike="noStrike">
                <a:solidFill>
                  <a:srgbClr val="ffffff"/>
                </a:solidFill>
                <a:latin typeface="Calibri"/>
              </a:rPr>
              <a:t>Chlamydia, “the Clam”, “gooey stuff”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#1 reported infectious disease in U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m-, obligate intracellular (ATP parasite), PBP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rovariant D-K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EB “spore” enters cell, becomes RB, replicates by binary fission, convert to EBs and released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Untreated: PID, infertility, ectopic pregnancy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eiter’s Syndrome: reactive arthritis &gt;1 month (molecular mimicry?)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reen women  &lt;25yo annually, Dx w/ IFA, ELISA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x: Doxycyclin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erpesvirus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anciclovi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reats CMV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evention of disease in immunocompromise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NS toxicit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enciclovi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reats Zoster (longer half-life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amciclovi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odrug for Penciclovir, increases GI absorp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apid resolution of zoster-associated pai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erpesvirus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scarne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lock polymerase by blocking PPi sit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reat acyclovir-resistant, CMV retiniti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oxic, used only in life-threatening situat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Vidarabin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opical for HSV keratoconjunctiviti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erpesvirus – Eye Infec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rmivirs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travitreal injec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ntisense oligonucleotides, RNA silenc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rifluridine, Idoxuridine, Vidarabine Soluti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ucleoside analog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hain terminator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reat Herpes keratiti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fluenza Viru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Type A,B,C (same internal M, N proteins)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: pandemics, antigenic shift, B: epidemic, drif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Subtypes </a:t>
            </a:r>
            <a:r>
              <a:rPr b="0" lang="en-US" sz="2700" spc="-1" strike="noStrike" u="sng">
                <a:solidFill>
                  <a:srgbClr val="ffffff"/>
                </a:solidFill>
                <a:uFillTx/>
                <a:latin typeface="Calibri"/>
              </a:rPr>
              <a:t>H</a:t>
            </a: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emagglutinin, </a:t>
            </a:r>
            <a:r>
              <a:rPr b="0" lang="en-US" sz="2700" spc="-1" strike="noStrike" u="sng">
                <a:solidFill>
                  <a:srgbClr val="ffffff"/>
                </a:solidFill>
                <a:uFillTx/>
                <a:latin typeface="Calibri"/>
              </a:rPr>
              <a:t>N</a:t>
            </a: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euraminidase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5, H7, H9 are avian-derived strai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Amantadine and Rimantadine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nly works on type A (needs pH &lt;6 to fuse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hibits M2 proton pump (buffers pH &gt;6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imantadine more potent, less CNS toxicit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Oseltamivir (Tamiflu) and Zanamivir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Neuramidase inhibitor (cleavage off sialic acid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rgets type A and B, approved treatment of flu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epatiti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combinant Interferon Alpha 2b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epatitis B, Kaposi’s sarcoma, HCV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eg-Interferon Alpha (Pegasys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epatitis C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ore stable in circula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mbination with ribaviri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SV, Lass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alivizumab (Synagis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onoclonal Ab to neutralize RSV F-glycoprotei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locks fus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reats infants &lt;2yo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ibaviri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Guanosine analogu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auses mutations (base substitutions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mbination with IFN for HCV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vading Host Defens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ivergent Evolu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. coli (O157:H7) from commensal strai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nvergent Evolu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isteria + Shigella destroy phagosome w/ protei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mmon strategi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eukocidins kill phagocytes (streptolysin O, </a:t>
            </a:r>
            <a:r>
              <a:rPr b="0" lang="el-GR" sz="2400" spc="-1" strike="noStrike">
                <a:solidFill>
                  <a:srgbClr val="ffffff"/>
                </a:solidFill>
                <a:latin typeface="Calibri"/>
              </a:rPr>
              <a:t>α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toxin, adenylyl cyclase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oteases degreate proteins (C3a, C5a, sIgA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ost proteins (Ig, lactoferrin, transferrin, S-layer, heparin, hyaluronic acid, sialic acid, H-factor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embranes (Gm+, LPS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lock intracellular signalling, lysosome fusion, respiratory burst, escape phagosome, inhibit Ag presenta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ntigenic variation (convergence: VMP&amp;VSG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per Ag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Vaccination Schedu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Hepatitis B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Birth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1-2 month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9-18 (next well child visit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ota, DTaP, HiB, PCV, IPV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2, 4, 6 month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TaP, HiB, PCV, MMR-Chicken Pox, Varicella, Hepatitis A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12-15 month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fluenza (H3N2, H1N1, B)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20720" indent="-27720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Annually (6-60 months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20720" indent="-27720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&gt;60 months if high risk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Hepatitis A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20720" indent="-27720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18-24 months (&gt;6mo after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TaP, IPV, MMR-Chicken Pox, Varicella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20720" indent="-27720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4-6 year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PV, HepA, MCV4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20720" indent="-27720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&gt;2 years if high risk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hlamydia trachomati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Trachom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rovariant A-C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hronic conjunctivitis leads to blindness by causing eyelashes to turn inward and scratch the corne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isease of povert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AFE strategy (surgery, ATB, face washing, environment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Lymphogranuloma Venereum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rovariant L1-3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Unnoticed painless herpetiform ulcera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guinal syndrome in men: painful lymphadeniti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an lead to anogenitorectal syndrome, elephantiasis of genitalia (women, homosexual men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frica, Asia, S. Americ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hlamydiophil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alibri"/>
              </a:rPr>
              <a:t>C. Psittaci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ffffff"/>
                </a:solidFill>
                <a:latin typeface="Calibri"/>
              </a:rPr>
              <a:t>Parrot Fever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haling bird feces, urine (parrots, parakeet, poultry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ild, non-productive cough, lower respiratory trac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an spread to liver, spleen, cause focal necrosi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alibri"/>
              </a:rPr>
              <a:t>C. Pneumoniae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1" i="1" lang="en-US" sz="1900" spc="-1" strike="noStrike">
                <a:solidFill>
                  <a:srgbClr val="ffffff"/>
                </a:solidFill>
                <a:latin typeface="Calibri"/>
              </a:rPr>
              <a:t>Walking Pneumonia”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ear-shaped EB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uman-only pathoge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typical pneumonia with persistant cough, malais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nnection with athero-sclerosis? (foam cells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Borrelia burgdorferi</a:t>
            </a:r>
            <a:br>
              <a:rPr sz="4000"/>
            </a:br>
            <a:r>
              <a:rPr b="0" i="1" lang="en-US" sz="4000" spc="-1" strike="noStrike">
                <a:solidFill>
                  <a:srgbClr val="ffffff"/>
                </a:solidFill>
                <a:latin typeface="Calibri"/>
              </a:rPr>
              <a:t>Lyme Diseas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#1 vector borne illness in US (80% of all vector-)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Corkscrew motility through solid tissue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-mem with lipoproteins (OspA), no LPS, no LTA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Deer ticks – 2 yr lifecycle, “accidental” hosts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Summer months, children + elderly, NE US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Bulls-eye rash, “flu-like” with no respiratory symptoms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Can lead to arthritis in single joint, bells palsy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Chronic disease – OspA, hLFA-1, autoimmune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LISA, Western (OspC, BmpA, Fla) confirmation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void area, protective clothing, DEET, survey/remove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Treat with doxycycline or IV ceftriaxone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elapsing Fev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B. hermsii, B. duttonii (Endemic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6840" y="2174760"/>
            <a:ext cx="40402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oft” tick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estern U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ower fatality rat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plicate in bloo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Genetic recombinatio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(VMP-like proteins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ocurring fever, malais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x: Tetracyclin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Jarisch-Herxheimer Rx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“mild septic shock”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B. Recurrentis (Epidemic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ody lous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frica/S. Americ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igher fatality rat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Leptospira interrogans</a:t>
            </a:r>
            <a:br>
              <a:rPr sz="4000"/>
            </a:br>
            <a:r>
              <a:rPr b="0" i="1" lang="en-US" sz="4000" spc="-1" strike="noStrike">
                <a:solidFill>
                  <a:srgbClr val="ffffff"/>
                </a:solidFill>
                <a:latin typeface="Calibri"/>
              </a:rPr>
              <a:t>Leptospiros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t obligate parasite (variety of animal hosts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hed through urine of infected hos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ffects kidneys, liver, ey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lu” like symptoms (LPS-like materal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ell’s Syndrome (10%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sseminated spirochetes, severe renal dysfunction, high fatality rate, aseptic meningiti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reat early with tetracyclines/</a:t>
            </a:r>
            <a:r>
              <a:rPr b="0" lang="el-GR" sz="3200" spc="-1" strike="noStrike">
                <a:solidFill>
                  <a:srgbClr val="ffffff"/>
                </a:solidFill>
                <a:latin typeface="Calibri"/>
              </a:rPr>
              <a:t>β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-lactam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reponema pallidum</a:t>
            </a:r>
            <a:br>
              <a:rPr sz="4000"/>
            </a:br>
            <a:r>
              <a:rPr b="0" i="1" lang="en-US" sz="4000" spc="-1" strike="noStrike">
                <a:solidFill>
                  <a:srgbClr val="ffffff"/>
                </a:solidFill>
                <a:latin typeface="Calibri"/>
              </a:rPr>
              <a:t>Syphil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orrelated with Yaws disease (Africa)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Infamous Tuskeegee study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oat self with host proteins, exposed TROMP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Wasserman test replaced with VDRL, RPR tests with cardiolipin (IgA), negative after treatmen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onfirmatory tests expensiv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yphilis screen recommended for all pregnancie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x: 1 dose of penicillin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reponema pallidum</a:t>
            </a:r>
            <a:br>
              <a:rPr sz="4000"/>
            </a:br>
            <a:r>
              <a:rPr b="0" i="1" lang="en-US" sz="4000" spc="-1" strike="noStrike">
                <a:solidFill>
                  <a:srgbClr val="ffffff"/>
                </a:solidFill>
                <a:latin typeface="Calibri"/>
              </a:rPr>
              <a:t>Syphil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⁰ - localized painless chancres, high # of spirochetes, neutrophil response, few week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⁰ - disseminate in blood, “great pox” rash on palms/soles, flu-like symptoms with arthriti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atency – High Ab titers, 30% progress to 3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⁰ - “gummas” (granulomatous lesions)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eurosyphilis: general paresis (insanity)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abes dorsalis (demyelination of posterior columns - sensation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2T16:04:11Z</dcterms:created>
  <dc:creator>JP</dc:creator>
  <dc:description/>
  <dc:language>en-US</dc:language>
  <cp:lastModifiedBy>JP</cp:lastModifiedBy>
  <dcterms:modified xsi:type="dcterms:W3CDTF">2008-11-13T04:38:52Z</dcterms:modified>
  <cp:revision>52</cp:revision>
  <dc:subject/>
  <dc:title>Bacteriology/Virology</dc:title>
</cp:coreProperties>
</file>